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A48A-7B72-4312-8FB6-903297A46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 history of…3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ideo is over we’re going to use sticks to Randomly Select people to respond to questions about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examples/techniques/strategies the teacher uses to get kid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1 active engagement strategy the teacher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phr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2 strategies just described which one would net the mos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ree/Disagree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your kids would enjoy the most?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trategy do you think they would be most resistant to try?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or count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re going to ask you some questions and use sticks, BUT after the person answers the question, the group has to stay on alert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o your partner and in less than 30 seconds tell them everything else about the video that you wanted to say but didn’t have a chance to. G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discussed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volunteers raise hands to share responses to any of the partner walk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used this Random Selection more than a few times today, so now le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so used this strategy to structure the discussion we had after the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time (how much depends on the complexity of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used this strategy yet so let’s take a look at it here. As the name imp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ay of the week, square root of 64, What is Newton’s 1</a:t>
            </a:r>
            <a:r>
              <a:rPr b="0" lang="en-US" sz="1200" spc="-1" strike="noStrike" baseline="30000">
                <a:solidFill>
                  <a:srgbClr val="000000"/>
                </a:solidFill>
                <a:latin typeface="Arial"/>
              </a:rPr>
              <a:t>st</a:t>
            </a:r>
            <a:r>
              <a:rPr b="0" lang="en-US" sz="1200" spc="-1" strike="noStrike">
                <a:solidFill>
                  <a:srgbClr val="000000"/>
                </a:solidFill>
                <a:latin typeface="Arial"/>
              </a:rPr>
              <a: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ne or two scenarios for which the Choral Response technique is better than Random Sele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s as simple as tha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going to learn this by doing this; learning by doing</a:t>
            </a: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using active engagement requires strong behavior management. The instructional action will constantly be changing from whole group interaction, to small group interaction, individual response, to direct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s help cue students to important elements and transitions in a les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at: Explain why we’re in a quasi-role playing mode with the signals an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 &amp; Hey, Class = H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h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Wo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coo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Partner 1 and Partner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raised hands t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d this page in your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give you a thinking prompt with time to 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ask you to write something…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rompt, give 5 seconds of wai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ing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key words here---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al Respon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ally something we know intuitively. We are all motivated to learn and we learn at higher levels, when we are more actively engage in the learning process. It’s human nature, and secondary students are no differ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2 parts; use micro-lecture (don’t name i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7F799-23B8-43BE-9508-4DC4D13D4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A81BE-94C6-40F0-9F8C-F5F46F7D0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5A02D-439D-407E-B0A6-D103092BB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F72A6-4BA4-4D7F-BD2A-4A0F53F51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1EADF-1BA3-45E3-9A2E-8937D13D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4132-8C5C-48A0-9C07-49CA4BF7F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AA54-840D-49C0-87BA-4646C359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9A056-F852-4D30-B0FD-7DD9CD35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FB060-C14E-4A61-B723-63F5848F4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1C82-E466-4EA3-B53D-22D0D21D1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5101A-130B-4BAB-9E71-52D073AC9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A804-D95E-422C-9017-408B31FE2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B0E9-65B3-4A71-B935-7C43D91BE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Strategi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429000"/>
            <a:ext cx="6400800" cy="2209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hill Farms Neighborhood Network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ridge School</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2, 2010</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ie Nichols, Ken Dandurand, Will P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le Brain Teaching</a:t>
            </a:r>
            <a:endParaRPr b="0" lang="en-US" sz="4400" spc="-1" strike="noStrike">
              <a:solidFill>
                <a:srgbClr val="000000"/>
              </a:solidFill>
              <a:latin typeface="Arial"/>
            </a:endParaRPr>
          </a:p>
        </p:txBody>
      </p:sp>
      <p:sp>
        <p:nvSpPr>
          <p:cNvPr id="67" name=""/>
          <p:cNvSpPr/>
          <p:nvPr/>
        </p:nvSpPr>
        <p:spPr>
          <a:xfrm>
            <a:off x="3353400" y="6324480"/>
            <a:ext cx="4964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h6WJdsb0dfM&amp;safety_mode=true&amp;persist_safety_mode=1</a:t>
            </a:r>
            <a:endParaRPr b="0" lang="en-US" sz="1000" spc="-1" strike="noStrike">
              <a:solidFill>
                <a:srgbClr val="000000"/>
              </a:solidFill>
              <a:latin typeface="Arial"/>
            </a:endParaRPr>
          </a:p>
        </p:txBody>
      </p:sp>
      <p:graphicFrame>
        <p:nvGraphicFramePr>
          <p:cNvPr id="68" name="ShockwaveFlash1"/>
          <p:cNvGraphicFramePr/>
          <p:nvPr/>
        </p:nvGraphicFramePr>
        <p:xfrm>
          <a:off x="533520" y="1371600"/>
          <a:ext cx="7770600" cy="4900680"/>
        </p:xfrm>
        <a:graphic>
          <a:graphicData uri="http://schemas.openxmlformats.org/presentationml/2006/ole">
            <p:oleObj r:id="rId1" spid="">
              <p:embed/>
              <p:pic>
                <p:nvPicPr>
                  <p:cNvPr id="69" name="ShockwaveFlash1" descr=""/>
                  <p:cNvPicPr/>
                  <p:nvPr/>
                </p:nvPicPr>
                <p:blipFill>
                  <a:blip r:embed="rId2"/>
                  <a:stretch/>
                </p:blipFill>
                <p:spPr>
                  <a:xfrm>
                    <a:off x="533520" y="1371600"/>
                    <a:ext cx="7770600" cy="4900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fter the first answer, the rest of you might be asked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phr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o or counter what another has s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or Disagree and tell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Walk</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id it feel like to be “on the hook,” knowing that your name could be pulle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ositive/negative impacts of questioning through random selection?</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randomly calling on students without a selection too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random selection using sticks different from calling on students who raise their h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Selec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Students must listen intently as they do not know who will be called up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 before selecting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Wait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caffolds if student strugg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nify response; access support and return to engage original stud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ler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ll students you will ask a question, give wait time and call on random student to answer. After that person answers, someone else will be randomly chosen 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phr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o or coun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ee or disagree and tell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 another opin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ral Respons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pond orally either by repeating teacher or by answering a question in unison. (Best for one word or short phra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at is to be repeated or ask a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length depends on complexity of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 signal (count of 3, hand ges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student simultaneity of response (i.e. all student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d Bank</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 l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ral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Ale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Pai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 Wal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Y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 one more…</a:t>
            </a:r>
            <a:endParaRPr b="0" lang="en-US" sz="4400" spc="-1" strike="noStrike">
              <a:solidFill>
                <a:srgbClr val="000000"/>
              </a:solidFill>
              <a:latin typeface="Arial"/>
            </a:endParaRPr>
          </a:p>
        </p:txBody>
      </p:sp>
      <p:sp>
        <p:nvSpPr>
          <p:cNvPr id="83" name=""/>
          <p:cNvSpPr/>
          <p:nvPr/>
        </p:nvSpPr>
        <p:spPr>
          <a:xfrm>
            <a:off x="2514600" y="6324480"/>
            <a:ext cx="592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youtube.com/v/dxPVyieptwA&amp;feature=related&amp;safety_mode=true&amp;persist_safety_mode=1</a:t>
            </a:r>
            <a:endParaRPr b="0" lang="en-US" sz="1000" spc="-1" strike="noStrike">
              <a:solidFill>
                <a:srgbClr val="000000"/>
              </a:solidFill>
              <a:latin typeface="Arial"/>
            </a:endParaRPr>
          </a:p>
        </p:txBody>
      </p:sp>
      <p:graphicFrame>
        <p:nvGraphicFramePr>
          <p:cNvPr id="84" name="ShockwaveFlash1"/>
          <p:cNvGraphicFramePr/>
          <p:nvPr/>
        </p:nvGraphicFramePr>
        <p:xfrm>
          <a:off x="685800" y="1371600"/>
          <a:ext cx="7770960" cy="4800600"/>
        </p:xfrm>
        <a:graphic>
          <a:graphicData uri="http://schemas.openxmlformats.org/presentationml/2006/ole">
            <p:oleObj r:id="rId1" spid="">
              <p:embed/>
              <p:pic>
                <p:nvPicPr>
                  <p:cNvPr id="85" name="ShockwaveFlash1" descr=""/>
                  <p:cNvPicPr/>
                  <p:nvPr/>
                </p:nvPicPr>
                <p:blipFill>
                  <a:blip r:embed="rId2"/>
                  <a:stretch/>
                </p:blipFill>
                <p:spPr>
                  <a:xfrm>
                    <a:off x="685800" y="1371600"/>
                    <a:ext cx="777096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one or two questions for which the answer 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ctive engagement strate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Objectiv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learn instructional techniques that will increase student participation and achie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Get Situat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attention and tran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ls for recognition and 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y, Pard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Write), Pair, Shar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gin a list of words A – Z that relate to </a:t>
            </a:r>
            <a:r>
              <a:rPr b="0" lang="en-US" sz="3200" spc="-1" strike="noStrike" u="sng">
                <a:solidFill>
                  <a:srgbClr val="000000"/>
                </a:solidFill>
                <a:uFillTx/>
                <a:latin typeface="Arial"/>
              </a:rPr>
              <a:t>active engagement strategi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hl’s Thinkers Keys (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e Engagement Defin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onsistent, frequent, often simultaneous engagement of the students’ minds with the subject matter being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 Organiz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levels of active engagement during lessons are associated with higher levels of achievement and student motivation. </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yan and Deci,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ies on effective teachers have clearly established that interactive direct instruction is more effective in producing student achievement gains.  Students learn best when the teacher is actively teaching and interacting with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 2001</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guments for the Use of</a:t>
            </a:r>
            <a:br>
              <a:rPr sz="4000"/>
            </a:br>
            <a:r>
              <a:rPr b="0" lang="en-US" sz="4000" spc="-1" strike="noStrike">
                <a:solidFill>
                  <a:srgbClr val="000000"/>
                </a:solidFill>
                <a:latin typeface="Arial"/>
              </a:rPr>
              <a:t>Active Engagement Strategie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each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behavior probl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C.F.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nef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focus and particip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ret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hip of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re valid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65">
                                            <p:txEl>
                                              <p:pRg st="9" end="9"/>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7:18:48Z</dcterms:created>
  <dc:creator>willard.pope</dc:creator>
  <dc:description/>
  <dc:language>en-US</dc:language>
  <cp:lastModifiedBy>HP Authorized Customer</cp:lastModifiedBy>
  <dcterms:modified xsi:type="dcterms:W3CDTF">2010-11-12T04:22:19Z</dcterms:modified>
  <cp:revision>39</cp:revision>
  <dc:subject/>
  <dc:title>Active Engagement Strategies</dc:title>
</cp:coreProperties>
</file>